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8.wmf" ContentType="image/x-wmf"/>
  <Override PartName="/ppt/media/image9.png" ContentType="image/png"/>
  <Override PartName="/ppt/media/image2.jpeg" ContentType="image/jpeg"/>
  <Override PartName="/ppt/media/image3.wmf" ContentType="image/x-wmf"/>
  <Override PartName="/ppt/media/image13.jpeg" ContentType="image/jpeg"/>
  <Override PartName="/ppt/media/image12.wmf" ContentType="image/x-wmf"/>
  <Override PartName="/ppt/media/image4.png" ContentType="image/png"/>
  <Override PartName="/ppt/media/image5.jpeg" ContentType="image/jpeg"/>
  <Override PartName="/ppt/media/image1.jpeg" ContentType="image/jpeg"/>
  <Override PartName="/ppt/media/image7.png" ContentType="image/png"/>
  <Override PartName="/ppt/media/image10.wmf" ContentType="image/x-wmf"/>
  <Override PartName="/ppt/media/image6.wmf" ContentType="image/x-wmf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088188" cy="9410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88400" cy="941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008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4016520" y="-360"/>
            <a:ext cx="307008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0160" y="705960"/>
            <a:ext cx="4705560" cy="352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44280" y="4470120"/>
            <a:ext cx="5197320" cy="4233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3"/>
          </p:nvPr>
        </p:nvSpPr>
        <p:spPr>
          <a:xfrm>
            <a:off x="0" y="8940600"/>
            <a:ext cx="307008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4"/>
          </p:nvPr>
        </p:nvSpPr>
        <p:spPr>
          <a:xfrm>
            <a:off x="4016520" y="8940600"/>
            <a:ext cx="307008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A92E0A8-1C7A-40E5-8DEF-1FDAB5A38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4016520" y="8940960"/>
            <a:ext cx="3070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69883D4-32F0-45EC-B2F1-6B45260EA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44280" y="4470120"/>
            <a:ext cx="51973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4016520" y="8940960"/>
            <a:ext cx="3070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053B1FB-52B7-4FA2-B1C9-74B00BEC5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44280" y="4470120"/>
            <a:ext cx="51973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4016520" y="8940960"/>
            <a:ext cx="3070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CCEDB2C-BB74-42B2-A9E6-5ABD85882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44280" y="4470120"/>
            <a:ext cx="51973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4016520" y="8940960"/>
            <a:ext cx="3070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B1E5735-ACAC-4EE0-84F8-176D23892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44280" y="4470120"/>
            <a:ext cx="51973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4016520" y="8940960"/>
            <a:ext cx="3070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E5E207C-D878-4969-A0E1-5891EEC41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44280" y="4470120"/>
            <a:ext cx="51973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4016520" y="8940960"/>
            <a:ext cx="3070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F242C7E-E4AE-4B02-B705-443111C91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44280" y="4470120"/>
            <a:ext cx="51973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4016520" y="8940960"/>
            <a:ext cx="3070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6671BE1-CE5B-4E74-AA97-2FC17A6FD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44280" y="4470120"/>
            <a:ext cx="51973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4016520" y="8940960"/>
            <a:ext cx="3070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FB428BB-4E2B-48D5-BE4C-B618DDB37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44280" y="4470120"/>
            <a:ext cx="51973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4016520" y="8940960"/>
            <a:ext cx="3070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08DF4D8-E0B2-46D5-A8CE-4567C6C19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44280" y="4470120"/>
            <a:ext cx="51973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4016520" y="8940960"/>
            <a:ext cx="3070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4F53DAE-DA06-4EA8-8892-7711F6498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44280" y="4470120"/>
            <a:ext cx="51973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4016520" y="8940960"/>
            <a:ext cx="3070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40E77DD-52F6-4ADA-8125-B03977E9E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44280" y="4470120"/>
            <a:ext cx="51973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4016520" y="8940960"/>
            <a:ext cx="3070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71558B9-DA83-4786-A201-C611929EC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44280" y="4470120"/>
            <a:ext cx="51973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4016520" y="8940960"/>
            <a:ext cx="3070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F28A7F9-237F-4579-9668-5B3B52253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44280" y="4470120"/>
            <a:ext cx="51973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4016520" y="8940960"/>
            <a:ext cx="3070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233B3B3-9190-4896-8B8C-D2F95C3ED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44280" y="4470120"/>
            <a:ext cx="51973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16520" y="8940960"/>
            <a:ext cx="3070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BDABB2E-1302-4466-95E5-2C24DA798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44280" y="4470120"/>
            <a:ext cx="51973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16520" y="8940960"/>
            <a:ext cx="3070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9935E8A-32A8-45BD-A5A9-8C4DED7C2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44280" y="4470120"/>
            <a:ext cx="51973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4016520" y="8940960"/>
            <a:ext cx="3070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6DB2FA3-DD39-45A6-92AC-EFF71F1B4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44280" y="4470120"/>
            <a:ext cx="51973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4016520" y="8940960"/>
            <a:ext cx="3070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F6B4E0C-9424-45B4-A8B1-DF93B7143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44280" y="4470120"/>
            <a:ext cx="51973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4016520" y="8940960"/>
            <a:ext cx="3070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25529D9-1EC6-40AC-9EB0-23974B505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44280" y="4470120"/>
            <a:ext cx="51973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4016520" y="8940960"/>
            <a:ext cx="3070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CB5BCD1-B79E-4BDE-8607-5EC53E720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44280" y="4470120"/>
            <a:ext cx="51973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3EA41-48DA-4BA4-8591-5EB18F01D0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20A69-ED1D-4C9D-AA2F-927334A250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62EE2-C4A6-401A-9275-586B9E92F0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A224E-EC00-4230-9674-373C1697AB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94EB8-4680-4724-9F1D-F0C014A75D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B9B91-2D61-4370-A286-F1149AFC1E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C22C3-9907-4280-B4CC-68C857B093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DCE9B-9CCB-4814-96CA-BFCA32D901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3227E-0EF9-4AC6-8D06-5E6BB1E574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3F655-3251-4025-803C-A343CAA8F6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292C4-731F-441D-B3C3-8EC77B0D3E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2ADA0-B838-4811-8677-CF6EAA98F3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02108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60CEE-2495-4B37-A003-BB6992649673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0055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8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76320">
            <a:solidFill>
              <a:srgbClr val="3737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file:///tmp/home/.config/libreoffice/4/user/gallery/MS900075011%5B1%5D.wav" TargetMode="External"/><Relationship Id="rId3" Type="http://schemas.microsoft.com/office/2007/relationships/media" Target="file:///tmp/home/.config/libreoffice/4/user/gallery/MS900075011%5B1%5D.wav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6"/>
          <p:cNvSpPr/>
          <p:nvPr/>
        </p:nvSpPr>
        <p:spPr>
          <a:xfrm>
            <a:off x="702144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74B4F-5025-4B55-8555-8D2956C5AE83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281240" y="2246400"/>
            <a:ext cx="78627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y should you care about power, politics, and govern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20"/>
          <p:cNvSpPr/>
          <p:nvPr/>
        </p:nvSpPr>
        <p:spPr>
          <a:xfrm>
            <a:off x="1092240" y="596880"/>
            <a:ext cx="23760" cy="626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32080" y="4540320"/>
            <a:ext cx="74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lease take a sheet of paper and write a 1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entence response to this ques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9800" y="624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1 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25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your text, please define the terms on the handout and provide an example for ea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531800" y="1922400"/>
            <a:ext cx="6018480" cy="40957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6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6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444680" y="1544760"/>
            <a:ext cx="6197400" cy="33415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635120" y="4800600"/>
            <a:ext cx="592920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14520" y="1474920"/>
            <a:ext cx="5794200" cy="19126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555920" y="3381480"/>
            <a:ext cx="597348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6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577880" y="1460520"/>
            <a:ext cx="5929560" cy="2171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592280" y="3627360"/>
            <a:ext cx="5929200" cy="26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0" y="601560"/>
            <a:ext cx="3352680" cy="6256440"/>
          </a:xfrm>
          <a:prstGeom prst="rect">
            <a:avLst/>
          </a:prstGeom>
          <a:solidFill>
            <a:srgbClr val="c1c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291960" y="95400"/>
            <a:ext cx="7391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wer, Politics, and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5"/>
          <p:cNvSpPr/>
          <p:nvPr/>
        </p:nvSpPr>
        <p:spPr>
          <a:xfrm>
            <a:off x="10461600" y="352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22"/>
          <p:cNvSpPr/>
          <p:nvPr/>
        </p:nvSpPr>
        <p:spPr>
          <a:xfrm>
            <a:off x="702144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2B983-9013-4096-8C25-96DC882C030B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3470400" y="781200"/>
            <a:ext cx="540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the “Power, Politics and You” section of the chapter on page 16 and 17. Then respond to the following questio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0" descr="00025968&amp;Stretch=False&amp;Size=600"/>
          <p:cNvPicPr/>
          <p:nvPr/>
        </p:nvPicPr>
        <p:blipFill>
          <a:blip r:embed="rId1"/>
          <a:srcRect l="7559" t="0" r="45946" b="7501"/>
          <a:stretch/>
        </p:blipFill>
        <p:spPr>
          <a:xfrm>
            <a:off x="295200" y="893880"/>
            <a:ext cx="2720880" cy="352584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38" name="Text Box 7"/>
          <p:cNvSpPr/>
          <p:nvPr/>
        </p:nvSpPr>
        <p:spPr>
          <a:xfrm>
            <a:off x="3552840" y="3106800"/>
            <a:ext cx="4949640" cy="28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0040" indent="-23004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rding to Alvin Toffler, what are the three kinds of power? Give an example of ea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se three kinds is the highest quality of pow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should you care about knowledge as a kind of pow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9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3 Kinds of P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nowledge is the highest quality of power and also the most democratic (anyone can learn and understa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608040"/>
            <a:ext cx="3352680" cy="6249960"/>
          </a:xfrm>
          <a:prstGeom prst="rect">
            <a:avLst/>
          </a:prstGeom>
          <a:solidFill>
            <a:srgbClr val="c1c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91960" y="95400"/>
            <a:ext cx="7391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10461600" y="352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22"/>
          <p:cNvSpPr/>
          <p:nvPr/>
        </p:nvSpPr>
        <p:spPr>
          <a:xfrm>
            <a:off x="702144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FF9D5-76F1-479E-90E6-A02E28935EB9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3463920" y="781200"/>
            <a:ext cx="5680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a group of 3, read the  quotations about powe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sign each quotation a “truth ranking” from 1 to 5 (1 = never true, 5 = always true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ect the quote that you like best and explain why.  (Pick a present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9" descr=""/>
          <p:cNvPicPr/>
          <p:nvPr/>
        </p:nvPicPr>
        <p:blipFill>
          <a:blip r:embed="rId1"/>
          <a:stretch/>
        </p:blipFill>
        <p:spPr>
          <a:xfrm>
            <a:off x="295200" y="893880"/>
            <a:ext cx="2720880" cy="353520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14"/>
          <p:cNvSpPr/>
          <p:nvPr/>
        </p:nvSpPr>
        <p:spPr>
          <a:xfrm>
            <a:off x="7763400" y="2519280"/>
            <a:ext cx="814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d9d9d9"/>
                </a:solidFill>
                <a:latin typeface="Arial"/>
              </a:rPr>
              <a:t>”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3"/>
          <p:cNvSpPr/>
          <p:nvPr/>
        </p:nvSpPr>
        <p:spPr>
          <a:xfrm>
            <a:off x="154800" y="1641600"/>
            <a:ext cx="814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d9d9d9"/>
                </a:solidFill>
                <a:latin typeface="Arial"/>
              </a:rPr>
              <a:t>“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291960" y="95400"/>
            <a:ext cx="7391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5"/>
          <p:cNvSpPr/>
          <p:nvPr/>
        </p:nvSpPr>
        <p:spPr>
          <a:xfrm>
            <a:off x="10461600" y="352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1"/>
          <p:cNvSpPr/>
          <p:nvPr/>
        </p:nvSpPr>
        <p:spPr>
          <a:xfrm>
            <a:off x="605520" y="2373480"/>
            <a:ext cx="790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ur scientific power has outrun our spiritual powe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e have guided missiles and misguided me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2"/>
          <p:cNvSpPr/>
          <p:nvPr/>
        </p:nvSpPr>
        <p:spPr>
          <a:xfrm>
            <a:off x="5266440" y="3708360"/>
            <a:ext cx="326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Martin Luther King J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f7f7f"/>
                </a:solidFill>
                <a:latin typeface="Arial"/>
              </a:rPr>
              <a:t>Strength to Love</a:t>
            </a: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, 19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0" y="5805360"/>
            <a:ext cx="9144000" cy="1052640"/>
          </a:xfrm>
          <a:prstGeom prst="rect">
            <a:avLst/>
          </a:prstGeom>
          <a:gradFill rotWithShape="0">
            <a:gsLst>
              <a:gs pos="0">
                <a:srgbClr val="002745"/>
              </a:gs>
              <a:gs pos="100000">
                <a:srgbClr val="00559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295200" y="5889600"/>
            <a:ext cx="869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                           2                               3                              4                               5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5"/>
          <p:cNvSpPr/>
          <p:nvPr/>
        </p:nvSpPr>
        <p:spPr>
          <a:xfrm>
            <a:off x="3240" y="5402160"/>
            <a:ext cx="23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quote above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8"/>
          <p:cNvSpPr/>
          <p:nvPr/>
        </p:nvSpPr>
        <p:spPr>
          <a:xfrm>
            <a:off x="0" y="6222960"/>
            <a:ext cx="931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ver True        Seldom True          Sometimes True          Often True           Always True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22"/>
          <p:cNvSpPr/>
          <p:nvPr/>
        </p:nvSpPr>
        <p:spPr>
          <a:xfrm>
            <a:off x="702144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A9009-14ED-483C-A584-E65C76B8E816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14"/>
          <p:cNvSpPr/>
          <p:nvPr/>
        </p:nvSpPr>
        <p:spPr>
          <a:xfrm>
            <a:off x="6968160" y="2519280"/>
            <a:ext cx="814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d9d9d9"/>
                </a:solidFill>
                <a:latin typeface="Arial"/>
              </a:rPr>
              <a:t>”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3"/>
          <p:cNvSpPr/>
          <p:nvPr/>
        </p:nvSpPr>
        <p:spPr>
          <a:xfrm>
            <a:off x="1865880" y="1641600"/>
            <a:ext cx="814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d9d9d9"/>
                </a:solidFill>
                <a:latin typeface="Arial"/>
              </a:rPr>
              <a:t>“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291960" y="95400"/>
            <a:ext cx="7391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5"/>
          <p:cNvSpPr/>
          <p:nvPr/>
        </p:nvSpPr>
        <p:spPr>
          <a:xfrm>
            <a:off x="10461600" y="352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1769760" y="2368440"/>
            <a:ext cx="55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ower tends to corrupt, and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solute power corrupts absolutely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2"/>
          <p:cNvSpPr/>
          <p:nvPr/>
        </p:nvSpPr>
        <p:spPr>
          <a:xfrm>
            <a:off x="2801520" y="3708360"/>
            <a:ext cx="571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Lord Ac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f7f7f"/>
                </a:solidFill>
                <a:latin typeface="Arial"/>
              </a:rPr>
              <a:t>Letter to Bishop Mandell Creighton</a:t>
            </a: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, 18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6"/>
          <p:cNvSpPr/>
          <p:nvPr/>
        </p:nvSpPr>
        <p:spPr>
          <a:xfrm>
            <a:off x="0" y="5805360"/>
            <a:ext cx="9144000" cy="1052640"/>
          </a:xfrm>
          <a:prstGeom prst="rect">
            <a:avLst/>
          </a:prstGeom>
          <a:gradFill rotWithShape="0">
            <a:gsLst>
              <a:gs pos="0">
                <a:srgbClr val="002745"/>
              </a:gs>
              <a:gs pos="100000">
                <a:srgbClr val="00559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295200" y="5889600"/>
            <a:ext cx="869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                           2                               3                              4                               5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5"/>
          <p:cNvSpPr/>
          <p:nvPr/>
        </p:nvSpPr>
        <p:spPr>
          <a:xfrm>
            <a:off x="3240" y="5402160"/>
            <a:ext cx="23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quote above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8"/>
          <p:cNvSpPr/>
          <p:nvPr/>
        </p:nvSpPr>
        <p:spPr>
          <a:xfrm>
            <a:off x="0" y="6222960"/>
            <a:ext cx="931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ver True        Seldom True          Sometimes True          Often True           Always True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22"/>
          <p:cNvSpPr/>
          <p:nvPr/>
        </p:nvSpPr>
        <p:spPr>
          <a:xfrm>
            <a:off x="702144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8ABB3-2295-4D7A-A427-257182D3195D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7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0055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8"/>
          <p:cNvSpPr/>
          <p:nvPr/>
        </p:nvSpPr>
        <p:spPr>
          <a:xfrm>
            <a:off x="0" y="608040"/>
            <a:ext cx="3352680" cy="6253200"/>
          </a:xfrm>
          <a:prstGeom prst="rect">
            <a:avLst/>
          </a:prstGeom>
          <a:solidFill>
            <a:srgbClr val="c1c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3565440" y="838080"/>
            <a:ext cx="52452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 these steps to complete a “personal power assessment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304920" y="88920"/>
            <a:ext cx="7467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9"/>
          <p:cNvSpPr/>
          <p:nvPr/>
        </p:nvSpPr>
        <p:spPr>
          <a:xfrm>
            <a:off x="702144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C0DB1-F886-4D19-ACA4-0C5B0BBB94B6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8"/>
          <p:cNvSpPr/>
          <p:nvPr/>
        </p:nvSpPr>
        <p:spPr>
          <a:xfrm>
            <a:off x="0" y="544680"/>
            <a:ext cx="9144000" cy="0"/>
          </a:xfrm>
          <a:prstGeom prst="line">
            <a:avLst/>
          </a:prstGeom>
          <a:ln w="76320">
            <a:solidFill>
              <a:srgbClr val="3737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0"/>
          <p:cNvSpPr/>
          <p:nvPr/>
        </p:nvSpPr>
        <p:spPr>
          <a:xfrm>
            <a:off x="3470400" y="2117880"/>
            <a:ext cx="54561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a list of all the individuals and institutions,  that have power over you. For each item, briefly describe how it has power over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make a list of all the individuals and institutions in which you have power. For each item, briefly describe how you have po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254880" y="898560"/>
            <a:ext cx="3332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 – Question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r. Jurac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. Colum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. Tor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se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of 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c,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 – Question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k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stud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14"/>
          <p:cNvSpPr/>
          <p:nvPr/>
        </p:nvSpPr>
        <p:spPr>
          <a:xfrm>
            <a:off x="8247600" y="2847960"/>
            <a:ext cx="814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d9d9d9"/>
                </a:solidFill>
                <a:latin typeface="Arial"/>
              </a:rPr>
              <a:t>”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3"/>
          <p:cNvSpPr/>
          <p:nvPr/>
        </p:nvSpPr>
        <p:spPr>
          <a:xfrm>
            <a:off x="302400" y="1494000"/>
            <a:ext cx="814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d9d9d9"/>
                </a:solidFill>
                <a:latin typeface="Arial"/>
              </a:rPr>
              <a:t>“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291960" y="95400"/>
            <a:ext cx="7391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5"/>
          <p:cNvSpPr/>
          <p:nvPr/>
        </p:nvSpPr>
        <p:spPr>
          <a:xfrm>
            <a:off x="10461600" y="352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1"/>
          <p:cNvSpPr/>
          <p:nvPr/>
        </p:nvSpPr>
        <p:spPr>
          <a:xfrm>
            <a:off x="410400" y="2260440"/>
            <a:ext cx="83311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t is not power that corrupts but fear. Fear of los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ower corrupts those who wield it and fear of th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courge of power corrupts those who are subject to it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2"/>
          <p:cNvSpPr/>
          <p:nvPr/>
        </p:nvSpPr>
        <p:spPr>
          <a:xfrm>
            <a:off x="3701160" y="3976560"/>
            <a:ext cx="482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Aung San Suu Ky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Freedom from fear” speech, 19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6"/>
          <p:cNvSpPr/>
          <p:nvPr/>
        </p:nvSpPr>
        <p:spPr>
          <a:xfrm>
            <a:off x="0" y="5805360"/>
            <a:ext cx="9144000" cy="1052640"/>
          </a:xfrm>
          <a:prstGeom prst="rect">
            <a:avLst/>
          </a:prstGeom>
          <a:gradFill rotWithShape="0">
            <a:gsLst>
              <a:gs pos="0">
                <a:srgbClr val="002745"/>
              </a:gs>
              <a:gs pos="100000">
                <a:srgbClr val="00559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295200" y="5889600"/>
            <a:ext cx="869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                           2                               3                              4                               5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3240" y="5402160"/>
            <a:ext cx="23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quote above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8"/>
          <p:cNvSpPr/>
          <p:nvPr/>
        </p:nvSpPr>
        <p:spPr>
          <a:xfrm>
            <a:off x="0" y="6222960"/>
            <a:ext cx="931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ver True        Seldom True          Sometimes True          Often True           Always True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22"/>
          <p:cNvSpPr/>
          <p:nvPr/>
        </p:nvSpPr>
        <p:spPr>
          <a:xfrm>
            <a:off x="702144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98331-95C3-4C8C-9859-10E4455511FA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Box 14"/>
          <p:cNvSpPr/>
          <p:nvPr/>
        </p:nvSpPr>
        <p:spPr>
          <a:xfrm>
            <a:off x="7884000" y="2363760"/>
            <a:ext cx="814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d9d9d9"/>
                </a:solidFill>
                <a:latin typeface="Arial"/>
              </a:rPr>
              <a:t>”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3"/>
          <p:cNvSpPr/>
          <p:nvPr/>
        </p:nvSpPr>
        <p:spPr>
          <a:xfrm>
            <a:off x="414000" y="1865160"/>
            <a:ext cx="814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d9d9d9"/>
                </a:solidFill>
                <a:latin typeface="Arial"/>
              </a:rPr>
              <a:t>“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291960" y="95400"/>
            <a:ext cx="7391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5"/>
          <p:cNvSpPr/>
          <p:nvPr/>
        </p:nvSpPr>
        <p:spPr>
          <a:xfrm>
            <a:off x="10461600" y="352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1"/>
          <p:cNvSpPr/>
          <p:nvPr/>
        </p:nvSpPr>
        <p:spPr>
          <a:xfrm>
            <a:off x="909360" y="2610000"/>
            <a:ext cx="7336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olitical power grows out of the barrel of a gu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2"/>
          <p:cNvSpPr/>
          <p:nvPr/>
        </p:nvSpPr>
        <p:spPr>
          <a:xfrm>
            <a:off x="6648480" y="370836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Mao Zed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6"/>
          <p:cNvSpPr/>
          <p:nvPr/>
        </p:nvSpPr>
        <p:spPr>
          <a:xfrm>
            <a:off x="0" y="5805360"/>
            <a:ext cx="9144000" cy="1052640"/>
          </a:xfrm>
          <a:prstGeom prst="rect">
            <a:avLst/>
          </a:prstGeom>
          <a:gradFill rotWithShape="0">
            <a:gsLst>
              <a:gs pos="0">
                <a:srgbClr val="002745"/>
              </a:gs>
              <a:gs pos="100000">
                <a:srgbClr val="00559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3"/>
          <p:cNvSpPr/>
          <p:nvPr/>
        </p:nvSpPr>
        <p:spPr>
          <a:xfrm>
            <a:off x="295200" y="5889600"/>
            <a:ext cx="869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                           2                               3                              4                               5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5"/>
          <p:cNvSpPr/>
          <p:nvPr/>
        </p:nvSpPr>
        <p:spPr>
          <a:xfrm>
            <a:off x="3240" y="5402160"/>
            <a:ext cx="23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quote above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0" y="6222960"/>
            <a:ext cx="931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ver True        Seldom True          Sometimes True          Often True           Always True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22"/>
          <p:cNvSpPr/>
          <p:nvPr/>
        </p:nvSpPr>
        <p:spPr>
          <a:xfrm>
            <a:off x="702144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0F06C-09EF-47B8-8BBB-BB8028B12511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Box 14"/>
          <p:cNvSpPr/>
          <p:nvPr/>
        </p:nvSpPr>
        <p:spPr>
          <a:xfrm>
            <a:off x="8247600" y="2847960"/>
            <a:ext cx="814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d9d9d9"/>
                </a:solidFill>
                <a:latin typeface="Arial"/>
              </a:rPr>
              <a:t>”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3"/>
          <p:cNvSpPr/>
          <p:nvPr/>
        </p:nvSpPr>
        <p:spPr>
          <a:xfrm>
            <a:off x="380160" y="1494000"/>
            <a:ext cx="814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d9d9d9"/>
                </a:solidFill>
                <a:latin typeface="Arial"/>
              </a:rPr>
              <a:t>“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291960" y="95400"/>
            <a:ext cx="7391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5"/>
          <p:cNvSpPr/>
          <p:nvPr/>
        </p:nvSpPr>
        <p:spPr>
          <a:xfrm>
            <a:off x="10461600" y="352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1"/>
          <p:cNvSpPr/>
          <p:nvPr/>
        </p:nvSpPr>
        <p:spPr>
          <a:xfrm>
            <a:off x="296280" y="2260440"/>
            <a:ext cx="84376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ve all, we must realize that no arsenal, or n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eapon in the arsenals of the world, is so formidab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s the will and moral courage of free men and wome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2"/>
          <p:cNvSpPr/>
          <p:nvPr/>
        </p:nvSpPr>
        <p:spPr>
          <a:xfrm>
            <a:off x="4358520" y="3976560"/>
            <a:ext cx="41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Ronald Rea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First Inaugural Address, 19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6"/>
          <p:cNvSpPr/>
          <p:nvPr/>
        </p:nvSpPr>
        <p:spPr>
          <a:xfrm>
            <a:off x="0" y="5805360"/>
            <a:ext cx="9144000" cy="1052640"/>
          </a:xfrm>
          <a:prstGeom prst="rect">
            <a:avLst/>
          </a:prstGeom>
          <a:gradFill rotWithShape="0">
            <a:gsLst>
              <a:gs pos="0">
                <a:srgbClr val="002745"/>
              </a:gs>
              <a:gs pos="100000">
                <a:srgbClr val="00559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3"/>
          <p:cNvSpPr/>
          <p:nvPr/>
        </p:nvSpPr>
        <p:spPr>
          <a:xfrm>
            <a:off x="295200" y="5889600"/>
            <a:ext cx="869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                           2                               3                              4                               5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3240" y="5402160"/>
            <a:ext cx="23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quote above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0" y="6222960"/>
            <a:ext cx="931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ver True        Seldom True          Sometimes True          Often True           Always True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22"/>
          <p:cNvSpPr/>
          <p:nvPr/>
        </p:nvSpPr>
        <p:spPr>
          <a:xfrm>
            <a:off x="702144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7EF06-905F-4C16-A74A-7F639AD2D176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14"/>
          <p:cNvSpPr/>
          <p:nvPr/>
        </p:nvSpPr>
        <p:spPr>
          <a:xfrm>
            <a:off x="8074800" y="2847960"/>
            <a:ext cx="814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d9d9d9"/>
                </a:solidFill>
                <a:latin typeface="Arial"/>
              </a:rPr>
              <a:t>”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3"/>
          <p:cNvSpPr/>
          <p:nvPr/>
        </p:nvSpPr>
        <p:spPr>
          <a:xfrm>
            <a:off x="230760" y="1135080"/>
            <a:ext cx="814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d9d9d9"/>
                </a:solidFill>
                <a:latin typeface="Arial"/>
              </a:rPr>
              <a:t>“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291960" y="95400"/>
            <a:ext cx="7391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5"/>
          <p:cNvSpPr/>
          <p:nvPr/>
        </p:nvSpPr>
        <p:spPr>
          <a:xfrm>
            <a:off x="10461600" y="352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1"/>
          <p:cNvSpPr/>
          <p:nvPr/>
        </p:nvSpPr>
        <p:spPr>
          <a:xfrm>
            <a:off x="395640" y="1863720"/>
            <a:ext cx="8367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en I despair, I remember that all through history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ways of truth and love have always won. There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ave been tyrants, and murderers, and for a time they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n seem invincible, but in the end they always fail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2"/>
          <p:cNvSpPr/>
          <p:nvPr/>
        </p:nvSpPr>
        <p:spPr>
          <a:xfrm>
            <a:off x="5866200" y="3976560"/>
            <a:ext cx="26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Mohandas Gand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6"/>
          <p:cNvSpPr/>
          <p:nvPr/>
        </p:nvSpPr>
        <p:spPr>
          <a:xfrm>
            <a:off x="0" y="5805360"/>
            <a:ext cx="9144000" cy="1052640"/>
          </a:xfrm>
          <a:prstGeom prst="rect">
            <a:avLst/>
          </a:prstGeom>
          <a:gradFill rotWithShape="0">
            <a:gsLst>
              <a:gs pos="0">
                <a:srgbClr val="002745"/>
              </a:gs>
              <a:gs pos="100000">
                <a:srgbClr val="00559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3"/>
          <p:cNvSpPr/>
          <p:nvPr/>
        </p:nvSpPr>
        <p:spPr>
          <a:xfrm>
            <a:off x="295200" y="5889600"/>
            <a:ext cx="869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                           2                               3                              4                               5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5"/>
          <p:cNvSpPr/>
          <p:nvPr/>
        </p:nvSpPr>
        <p:spPr>
          <a:xfrm>
            <a:off x="3240" y="5402160"/>
            <a:ext cx="23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quote above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8"/>
          <p:cNvSpPr/>
          <p:nvPr/>
        </p:nvSpPr>
        <p:spPr>
          <a:xfrm>
            <a:off x="0" y="6222960"/>
            <a:ext cx="931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ver True        Seldom True          Sometimes True          Often True           Always True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22"/>
          <p:cNvSpPr/>
          <p:nvPr/>
        </p:nvSpPr>
        <p:spPr>
          <a:xfrm>
            <a:off x="702144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293EE-1785-4412-AA21-0C1691CFF3D8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14"/>
          <p:cNvSpPr/>
          <p:nvPr/>
        </p:nvSpPr>
        <p:spPr>
          <a:xfrm>
            <a:off x="7460280" y="2509920"/>
            <a:ext cx="814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d9d9d9"/>
                </a:solidFill>
                <a:latin typeface="Arial"/>
              </a:rPr>
              <a:t>”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3"/>
          <p:cNvSpPr/>
          <p:nvPr/>
        </p:nvSpPr>
        <p:spPr>
          <a:xfrm>
            <a:off x="1027800" y="1614600"/>
            <a:ext cx="814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d9d9d9"/>
                </a:solidFill>
                <a:latin typeface="Arial"/>
              </a:rPr>
              <a:t>“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291960" y="95400"/>
            <a:ext cx="7391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10461600" y="352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1"/>
          <p:cNvSpPr/>
          <p:nvPr/>
        </p:nvSpPr>
        <p:spPr>
          <a:xfrm>
            <a:off x="1433520" y="2346480"/>
            <a:ext cx="639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en the power of love overcomes the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ove of power, the world will know peac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2"/>
          <p:cNvSpPr/>
          <p:nvPr/>
        </p:nvSpPr>
        <p:spPr>
          <a:xfrm>
            <a:off x="6683400" y="370836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Jimi Hend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6"/>
          <p:cNvSpPr/>
          <p:nvPr/>
        </p:nvSpPr>
        <p:spPr>
          <a:xfrm>
            <a:off x="0" y="5805360"/>
            <a:ext cx="9144000" cy="1052640"/>
          </a:xfrm>
          <a:prstGeom prst="rect">
            <a:avLst/>
          </a:prstGeom>
          <a:gradFill rotWithShape="0">
            <a:gsLst>
              <a:gs pos="0">
                <a:srgbClr val="002745"/>
              </a:gs>
              <a:gs pos="100000">
                <a:srgbClr val="00559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3"/>
          <p:cNvSpPr/>
          <p:nvPr/>
        </p:nvSpPr>
        <p:spPr>
          <a:xfrm>
            <a:off x="295200" y="5889600"/>
            <a:ext cx="869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                           2                               3                              4                               5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5"/>
          <p:cNvSpPr/>
          <p:nvPr/>
        </p:nvSpPr>
        <p:spPr>
          <a:xfrm>
            <a:off x="3240" y="5402160"/>
            <a:ext cx="23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quote above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8"/>
          <p:cNvSpPr/>
          <p:nvPr/>
        </p:nvSpPr>
        <p:spPr>
          <a:xfrm>
            <a:off x="0" y="6222960"/>
            <a:ext cx="931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ver True        Seldom True          Sometimes True          Often True           Always True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22"/>
          <p:cNvSpPr/>
          <p:nvPr/>
        </p:nvSpPr>
        <p:spPr>
          <a:xfrm>
            <a:off x="702144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48F7A-D42E-45C8-95A2-6A3B4BBC3F2B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Box 14"/>
          <p:cNvSpPr/>
          <p:nvPr/>
        </p:nvSpPr>
        <p:spPr>
          <a:xfrm>
            <a:off x="7487280" y="2527200"/>
            <a:ext cx="814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d9d9d9"/>
                </a:solidFill>
                <a:latin typeface="Arial"/>
              </a:rPr>
              <a:t>”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3"/>
          <p:cNvSpPr/>
          <p:nvPr/>
        </p:nvSpPr>
        <p:spPr>
          <a:xfrm>
            <a:off x="1129320" y="1187280"/>
            <a:ext cx="814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d9d9d9"/>
                </a:solidFill>
                <a:latin typeface="Arial"/>
              </a:rPr>
              <a:t>“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291960" y="95400"/>
            <a:ext cx="7391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5"/>
          <p:cNvSpPr/>
          <p:nvPr/>
        </p:nvSpPr>
        <p:spPr>
          <a:xfrm>
            <a:off x="10461600" y="352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1"/>
          <p:cNvSpPr/>
          <p:nvPr/>
        </p:nvSpPr>
        <p:spPr>
          <a:xfrm>
            <a:off x="1293480" y="1941480"/>
            <a:ext cx="65570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s country has been strip-mined b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ich and powerful interests. If you don’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ike what they’re doing, don’t just sit ther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2"/>
          <p:cNvSpPr/>
          <p:nvPr/>
        </p:nvSpPr>
        <p:spPr>
          <a:xfrm>
            <a:off x="6645960" y="3708360"/>
            <a:ext cx="188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Ralph N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19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6"/>
          <p:cNvSpPr/>
          <p:nvPr/>
        </p:nvSpPr>
        <p:spPr>
          <a:xfrm>
            <a:off x="0" y="5805360"/>
            <a:ext cx="9144000" cy="1052640"/>
          </a:xfrm>
          <a:prstGeom prst="rect">
            <a:avLst/>
          </a:prstGeom>
          <a:gradFill rotWithShape="0">
            <a:gsLst>
              <a:gs pos="0">
                <a:srgbClr val="002745"/>
              </a:gs>
              <a:gs pos="100000">
                <a:srgbClr val="00559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3"/>
          <p:cNvSpPr/>
          <p:nvPr/>
        </p:nvSpPr>
        <p:spPr>
          <a:xfrm>
            <a:off x="295200" y="5889600"/>
            <a:ext cx="869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                           2                               3                              4                               5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5"/>
          <p:cNvSpPr/>
          <p:nvPr/>
        </p:nvSpPr>
        <p:spPr>
          <a:xfrm>
            <a:off x="3240" y="5402160"/>
            <a:ext cx="23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quote above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8"/>
          <p:cNvSpPr/>
          <p:nvPr/>
        </p:nvSpPr>
        <p:spPr>
          <a:xfrm>
            <a:off x="0" y="6222960"/>
            <a:ext cx="931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ver True        Seldom True          Sometimes True          Often True           Always True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22"/>
          <p:cNvSpPr/>
          <p:nvPr/>
        </p:nvSpPr>
        <p:spPr>
          <a:xfrm>
            <a:off x="702144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E45F2-FAF0-4367-A89C-ADD509FBAD79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16"/>
          <p:cNvSpPr/>
          <p:nvPr/>
        </p:nvSpPr>
        <p:spPr>
          <a:xfrm>
            <a:off x="0" y="5805360"/>
            <a:ext cx="9144000" cy="1052640"/>
          </a:xfrm>
          <a:prstGeom prst="rect">
            <a:avLst/>
          </a:prstGeom>
          <a:gradFill rotWithShape="0">
            <a:gsLst>
              <a:gs pos="0">
                <a:srgbClr val="002745"/>
              </a:gs>
              <a:gs pos="100000">
                <a:srgbClr val="00559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4"/>
          <p:cNvSpPr/>
          <p:nvPr/>
        </p:nvSpPr>
        <p:spPr>
          <a:xfrm>
            <a:off x="7383240" y="2847960"/>
            <a:ext cx="814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d9d9d9"/>
                </a:solidFill>
                <a:latin typeface="Arial"/>
              </a:rPr>
              <a:t>”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3"/>
          <p:cNvSpPr/>
          <p:nvPr/>
        </p:nvSpPr>
        <p:spPr>
          <a:xfrm>
            <a:off x="1278720" y="1127160"/>
            <a:ext cx="814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d9d9d9"/>
                </a:solidFill>
                <a:latin typeface="Arial"/>
              </a:rPr>
              <a:t>“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291960" y="95400"/>
            <a:ext cx="7391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5"/>
          <p:cNvSpPr/>
          <p:nvPr/>
        </p:nvSpPr>
        <p:spPr>
          <a:xfrm>
            <a:off x="10461600" y="352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3"/>
          <p:cNvSpPr/>
          <p:nvPr/>
        </p:nvSpPr>
        <p:spPr>
          <a:xfrm>
            <a:off x="295200" y="5889600"/>
            <a:ext cx="869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                           2                               3                              4                               5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5"/>
          <p:cNvSpPr/>
          <p:nvPr/>
        </p:nvSpPr>
        <p:spPr>
          <a:xfrm>
            <a:off x="3240" y="5402160"/>
            <a:ext cx="23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quote above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8"/>
          <p:cNvSpPr/>
          <p:nvPr/>
        </p:nvSpPr>
        <p:spPr>
          <a:xfrm>
            <a:off x="0" y="6222960"/>
            <a:ext cx="931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ver True        Seldom True          Sometimes True          Often True           Always True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1"/>
          <p:cNvSpPr/>
          <p:nvPr/>
        </p:nvSpPr>
        <p:spPr>
          <a:xfrm>
            <a:off x="1153440" y="1863720"/>
            <a:ext cx="6837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men who create power make a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dispensable contribution to the Nation’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reatness, but the men who question pow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 a contribution just as indispensabl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2"/>
          <p:cNvSpPr/>
          <p:nvPr/>
        </p:nvSpPr>
        <p:spPr>
          <a:xfrm>
            <a:off x="3796200" y="3976560"/>
            <a:ext cx="473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John F. Kenne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Speech at Amherst College, 19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22"/>
          <p:cNvSpPr/>
          <p:nvPr/>
        </p:nvSpPr>
        <p:spPr>
          <a:xfrm>
            <a:off x="702144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AB2CA-C3FB-4725-8788-B9EC508CA08D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304920" y="88920"/>
            <a:ext cx="7467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4853160" y="836640"/>
            <a:ext cx="4152600" cy="12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Section 1.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, respond to these ques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4726080" y="2233440"/>
            <a:ext cx="4022640" cy="44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0040" indent="-23004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viewpoint did many colonial Americans hold about govern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this attitude continue to be held by contemporary America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o you think there is a mistrust of govern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government a “necessary evil” or even necessary at a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GOV_SE_CH1_Page_02.jpg"/>
          <p:cNvPicPr/>
          <p:nvPr/>
        </p:nvPicPr>
        <p:blipFill>
          <a:blip r:embed="rId1"/>
          <a:srcRect l="0" t="0" r="3664" b="0"/>
          <a:stretch/>
        </p:blipFill>
        <p:spPr>
          <a:xfrm>
            <a:off x="0" y="608040"/>
            <a:ext cx="4572000" cy="6249960"/>
          </a:xfrm>
          <a:prstGeom prst="rect">
            <a:avLst/>
          </a:prstGeom>
          <a:ln w="0">
            <a:noFill/>
          </a:ln>
        </p:spPr>
      </p:pic>
      <p:sp>
        <p:nvSpPr>
          <p:cNvPr id="64" name="Line 20"/>
          <p:cNvSpPr/>
          <p:nvPr/>
        </p:nvSpPr>
        <p:spPr>
          <a:xfrm>
            <a:off x="4548240" y="596880"/>
            <a:ext cx="23760" cy="626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6"/>
          <p:cNvSpPr/>
          <p:nvPr/>
        </p:nvSpPr>
        <p:spPr>
          <a:xfrm>
            <a:off x="702144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37029-4F67-4BD5-A666-53D14384A600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0" y="608040"/>
            <a:ext cx="3352680" cy="6249960"/>
          </a:xfrm>
          <a:prstGeom prst="rect">
            <a:avLst/>
          </a:prstGeom>
          <a:solidFill>
            <a:srgbClr val="c1c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5"/>
          <p:cNvSpPr/>
          <p:nvPr/>
        </p:nvSpPr>
        <p:spPr>
          <a:xfrm>
            <a:off x="10461600" y="352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8"/>
          <p:cNvSpPr/>
          <p:nvPr/>
        </p:nvSpPr>
        <p:spPr>
          <a:xfrm>
            <a:off x="3475080" y="793800"/>
            <a:ext cx="54975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hip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will be playing a game in which you trade colored chips. Follow these rules to pla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9"/>
          <p:cNvSpPr/>
          <p:nvPr/>
        </p:nvSpPr>
        <p:spPr>
          <a:xfrm>
            <a:off x="702144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8E066-904F-41D1-A2B5-2CD844B483DB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0"/>
          <p:cNvSpPr/>
          <p:nvPr/>
        </p:nvSpPr>
        <p:spPr>
          <a:xfrm>
            <a:off x="3468600" y="1908000"/>
            <a:ext cx="54561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round, you will have two minutes to trade your chips. All trad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ding those in progr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stop when the time is 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trading, the student with the most points will be asked to make a rule for the next round. That rule will apply only to the next rou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8"/>
          <p:cNvSpPr/>
          <p:nvPr/>
        </p:nvSpPr>
        <p:spPr>
          <a:xfrm>
            <a:off x="3494160" y="4127400"/>
            <a:ext cx="549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will randomly give you some chips of different colors to play the chip ga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9" descr="handcareds.jpg"/>
          <p:cNvPicPr/>
          <p:nvPr/>
        </p:nvPicPr>
        <p:blipFill>
          <a:blip r:embed="rId1"/>
          <a:stretch/>
        </p:blipFill>
        <p:spPr>
          <a:xfrm>
            <a:off x="295200" y="893880"/>
            <a:ext cx="2743200" cy="174600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0" y="608040"/>
            <a:ext cx="3352680" cy="6249960"/>
          </a:xfrm>
          <a:prstGeom prst="rect">
            <a:avLst/>
          </a:prstGeom>
          <a:solidFill>
            <a:srgbClr val="c1c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5"/>
          <p:cNvSpPr/>
          <p:nvPr/>
        </p:nvSpPr>
        <p:spPr>
          <a:xfrm>
            <a:off x="10461600" y="352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8"/>
          <p:cNvSpPr/>
          <p:nvPr/>
        </p:nvSpPr>
        <p:spPr>
          <a:xfrm>
            <a:off x="3475080" y="793800"/>
            <a:ext cx="54975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hip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me: Roun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may begin trad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9"/>
          <p:cNvSpPr/>
          <p:nvPr/>
        </p:nvSpPr>
        <p:spPr>
          <a:xfrm>
            <a:off x="702144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2DFCD-2C21-4C04-B423-B1C0B7A143BA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0"/>
          <p:cNvSpPr/>
          <p:nvPr/>
        </p:nvSpPr>
        <p:spPr>
          <a:xfrm>
            <a:off x="365040" y="1328760"/>
            <a:ext cx="938160" cy="12301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1"/>
          <p:cNvSpPr/>
          <p:nvPr/>
        </p:nvSpPr>
        <p:spPr>
          <a:xfrm>
            <a:off x="860400" y="2103480"/>
            <a:ext cx="938160" cy="1230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2"/>
          <p:cNvSpPr/>
          <p:nvPr/>
        </p:nvSpPr>
        <p:spPr>
          <a:xfrm>
            <a:off x="1393920" y="2822400"/>
            <a:ext cx="938160" cy="123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3"/>
          <p:cNvSpPr/>
          <p:nvPr/>
        </p:nvSpPr>
        <p:spPr>
          <a:xfrm>
            <a:off x="1987560" y="3573360"/>
            <a:ext cx="938160" cy="1230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827600" y="1990800"/>
            <a:ext cx="2989080" cy="38923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6073920" y="16477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355280" y="6035760"/>
            <a:ext cx="35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have two minutes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270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2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0" y="608040"/>
            <a:ext cx="3352680" cy="6249960"/>
          </a:xfrm>
          <a:prstGeom prst="rect">
            <a:avLst/>
          </a:prstGeom>
          <a:solidFill>
            <a:srgbClr val="c1c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5"/>
          <p:cNvSpPr/>
          <p:nvPr/>
        </p:nvSpPr>
        <p:spPr>
          <a:xfrm>
            <a:off x="10461600" y="352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8"/>
          <p:cNvSpPr/>
          <p:nvPr/>
        </p:nvSpPr>
        <p:spPr>
          <a:xfrm>
            <a:off x="3475080" y="793800"/>
            <a:ext cx="5497560" cy="57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hip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me: Roun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trades must stop now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se points to calculate the point value of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chi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te = 10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ue = 25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llow = 50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rple = 100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has the most point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the student with the most points will make a rule for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xt rou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The new rule cannot end all trading and will apply only to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xt rou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trad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will write this new rule on the board so everyone can see it. Remember, this new rule only applies to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xt rou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9"/>
          <p:cNvSpPr/>
          <p:nvPr/>
        </p:nvSpPr>
        <p:spPr>
          <a:xfrm>
            <a:off x="702144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30E36-C252-40A4-B115-72372844584D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365040" y="1328760"/>
            <a:ext cx="938160" cy="12301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1"/>
          <p:cNvSpPr/>
          <p:nvPr/>
        </p:nvSpPr>
        <p:spPr>
          <a:xfrm>
            <a:off x="860400" y="2103480"/>
            <a:ext cx="938160" cy="1230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2"/>
          <p:cNvSpPr/>
          <p:nvPr/>
        </p:nvSpPr>
        <p:spPr>
          <a:xfrm>
            <a:off x="1393920" y="2822400"/>
            <a:ext cx="938160" cy="123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3"/>
          <p:cNvSpPr/>
          <p:nvPr/>
        </p:nvSpPr>
        <p:spPr>
          <a:xfrm>
            <a:off x="1987560" y="3573360"/>
            <a:ext cx="938160" cy="1230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6"/>
          <p:cNvSpPr/>
          <p:nvPr/>
        </p:nvSpPr>
        <p:spPr>
          <a:xfrm>
            <a:off x="860400" y="2212920"/>
            <a:ext cx="9367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6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6"/>
          <p:cNvSpPr/>
          <p:nvPr/>
        </p:nvSpPr>
        <p:spPr>
          <a:xfrm>
            <a:off x="369720" y="1441440"/>
            <a:ext cx="9367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6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1395360" y="2922480"/>
            <a:ext cx="9349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6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6"/>
          <p:cNvSpPr/>
          <p:nvPr/>
        </p:nvSpPr>
        <p:spPr>
          <a:xfrm>
            <a:off x="1990800" y="3683160"/>
            <a:ext cx="9367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6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608040"/>
            <a:ext cx="3352680" cy="6249960"/>
          </a:xfrm>
          <a:prstGeom prst="rect">
            <a:avLst/>
          </a:prstGeom>
          <a:solidFill>
            <a:srgbClr val="c1c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5"/>
          <p:cNvSpPr/>
          <p:nvPr/>
        </p:nvSpPr>
        <p:spPr>
          <a:xfrm>
            <a:off x="10461600" y="352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8"/>
          <p:cNvSpPr/>
          <p:nvPr/>
        </p:nvSpPr>
        <p:spPr>
          <a:xfrm>
            <a:off x="3475080" y="793800"/>
            <a:ext cx="5497560" cy="46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hip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me: Roun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play another round of trad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may begin trad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trades must stop now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your poi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has the most point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the student with the most points will make a rule for the next round. The new rule cannot end all trading and will apply only to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xt rou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trad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will write this new rule on the board so everyone can see it. Remember, this new rule only applies to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xt rou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9"/>
          <p:cNvSpPr/>
          <p:nvPr/>
        </p:nvSpPr>
        <p:spPr>
          <a:xfrm>
            <a:off x="702144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661F6-DC95-43CF-AAC3-BF33942D519A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365040" y="1328760"/>
            <a:ext cx="938160" cy="12301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860400" y="2103480"/>
            <a:ext cx="938160" cy="1230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2"/>
          <p:cNvSpPr/>
          <p:nvPr/>
        </p:nvSpPr>
        <p:spPr>
          <a:xfrm>
            <a:off x="1393920" y="2822400"/>
            <a:ext cx="938160" cy="123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1987560" y="3573360"/>
            <a:ext cx="938160" cy="1230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0" y="608040"/>
            <a:ext cx="3352680" cy="6249960"/>
          </a:xfrm>
          <a:prstGeom prst="rect">
            <a:avLst/>
          </a:prstGeom>
          <a:solidFill>
            <a:srgbClr val="c1c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5"/>
          <p:cNvSpPr/>
          <p:nvPr/>
        </p:nvSpPr>
        <p:spPr>
          <a:xfrm>
            <a:off x="10461600" y="352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8"/>
          <p:cNvSpPr/>
          <p:nvPr/>
        </p:nvSpPr>
        <p:spPr>
          <a:xfrm>
            <a:off x="3475080" y="793800"/>
            <a:ext cx="5497560" cy="46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hip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me: Round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play another round of trad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may begin trad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trades must stop now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your poi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has the most point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the student with the most points will make a rule for the next round. The new rule cannot end all trading and will apply only to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xt rou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trad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will write this new rule on the board so everyone can see it. Remember, this new rule only applies to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xt rou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9"/>
          <p:cNvSpPr/>
          <p:nvPr/>
        </p:nvSpPr>
        <p:spPr>
          <a:xfrm>
            <a:off x="702144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F92A6-0471-4BE0-B185-67A26DC3D09E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365040" y="1328760"/>
            <a:ext cx="938160" cy="12301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1"/>
          <p:cNvSpPr/>
          <p:nvPr/>
        </p:nvSpPr>
        <p:spPr>
          <a:xfrm>
            <a:off x="860400" y="2103480"/>
            <a:ext cx="938160" cy="1230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1393920" y="2822400"/>
            <a:ext cx="938160" cy="123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3"/>
          <p:cNvSpPr/>
          <p:nvPr/>
        </p:nvSpPr>
        <p:spPr>
          <a:xfrm>
            <a:off x="1987560" y="3573360"/>
            <a:ext cx="938160" cy="1230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0" y="608040"/>
            <a:ext cx="3352680" cy="6249960"/>
          </a:xfrm>
          <a:prstGeom prst="rect">
            <a:avLst/>
          </a:prstGeom>
          <a:solidFill>
            <a:srgbClr val="c1c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8" descr="73NN1934.jpg"/>
          <p:cNvPicPr/>
          <p:nvPr/>
        </p:nvPicPr>
        <p:blipFill>
          <a:blip r:embed="rId1"/>
          <a:stretch/>
        </p:blipFill>
        <p:spPr>
          <a:xfrm>
            <a:off x="295200" y="893880"/>
            <a:ext cx="2789280" cy="183996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14" name="Text Box 3"/>
          <p:cNvSpPr/>
          <p:nvPr/>
        </p:nvSpPr>
        <p:spPr>
          <a:xfrm>
            <a:off x="291960" y="95400"/>
            <a:ext cx="7391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ential Exer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5"/>
          <p:cNvSpPr/>
          <p:nvPr/>
        </p:nvSpPr>
        <p:spPr>
          <a:xfrm>
            <a:off x="10461600" y="352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8"/>
          <p:cNvSpPr/>
          <p:nvPr/>
        </p:nvSpPr>
        <p:spPr>
          <a:xfrm>
            <a:off x="3475080" y="793800"/>
            <a:ext cx="549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ease write a brief summary of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9"/>
          <p:cNvSpPr/>
          <p:nvPr/>
        </p:nvSpPr>
        <p:spPr>
          <a:xfrm>
            <a:off x="702144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C238B-E90C-4384-94F7-D151A7B9D970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556080" y="1819440"/>
            <a:ext cx="49608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0040" indent="-23004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happened to you during the ga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happened in the class during the ga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think this game was abo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this experience, how would you define pow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might power be related to a course on American politics and govern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1T05:08:41Z</dcterms:created>
  <dc:creator>TCI  </dc:creator>
  <dc:description/>
  <dc:language>en-US</dc:language>
  <cp:lastModifiedBy>School District U46</cp:lastModifiedBy>
  <cp:lastPrinted>2007-08-24T20:48:01Z</cp:lastPrinted>
  <dcterms:modified xsi:type="dcterms:W3CDTF">2011-08-30T12:13:35Z</dcterms:modified>
  <cp:revision>918</cp:revision>
  <dc:subject/>
  <dc:title>PowerPoint Presentation</dc:title>
</cp:coreProperties>
</file>